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C4B6-709D-4351-BCC2-04F0928BCF7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B54B-CFA3-4239-B6EB-945CF5C32774}"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l y a toujours des nouveaux arrivants impliqués dans Francoqueer depuis la création de l’organisme. D’ailleurs le premier coordonateur de Francoqueer est un immigrant africain.</a:t>
            </a:r>
            <a:endParaRPr b="0" lang="en-US" sz="1200" spc="-1" strike="noStrike">
              <a:solidFill>
                <a:srgbClr val="000000"/>
              </a:solidFill>
              <a:latin typeface="Calibri"/>
            </a:endParaRPr>
          </a:p>
        </p:txBody>
      </p:sp>
      <p:sp>
        <p:nvSpPr>
          <p:cNvPr id="1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953-69E7-4A7E-A1F9-2AF25B535324}"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ise en contexte: rencontre avec le ministre de l’immigration pour la mise de programme pour les immigrants LGBT</a:t>
            </a:r>
            <a:endParaRPr b="0" lang="en-US"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0CC1-E59E-4F24-828F-D51BEBE80F30}"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e demande à deux dans les premières années. Depuis les deux dernières années la demande s’est accrue, passant d’une dizaine en 2012 à près d’une vingtaine en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lexe dans le sens où la plus part des personnes LGBT nouveaux arrivant qui s’adressent à nous ont souvent vécu des traumatismes suite à pression sociale, des menaces de mort ou forcées à se marier pour voiler leur homosexualité. Ils proviennent également de pays où l’homosexualité est criminalisé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 ailleurs, beaucoup ont un niveau d’instruction faible et ne peuvent s’informer des réalités du VIH/sida au Canada. D’où leur exposion aux risques d’infection au VIH/sida.</a:t>
            </a: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3C15-2285-4B21-93C9-ACE90202F396}"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70 pays au monde criminalisent d’une façon ou d’une autre l’homosexualité. La plus part des pays musulmans exécutent des personnes LGBT sur la place publique pour faire une lesson à la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s organismes comme le 519, le Sherbourne Health Centre n’offrent de services en français. Alors les nouveaux arrivants LBGT francophones ne parlent pas anglais. Ils sont ainsi privés de ressources essentielles à une intégration réuss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ur d’être revictimisés par les membres de leur communauté ethnique étant donné que l’homosexualité demeure profondément tabou même dans un pays comme le Canada où il existe des lois et des droits protégeant les personnes LGBT</a:t>
            </a: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6DA8-B9F6-4B74-8816-B79CCA6C5ACC}"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imerais souligner que les besoins sont complexes aussi bien en anglais qu’en français. La différence est qu’il existe des services en anglais répondant à ces besoins complexes des personnes LGBT anglophones. Ce qui n’est pas le cas pour les francoph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is si les organismes francophones offrent des programmes et services d’établissement, ceux-ci sont plutôt générau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 plus la plus part des personnes LGBT qui nous contactent, disent ne pas se sentir à l’aise de revéler leur orientation aux intervenants qui sont souvent de même pays d’origine qu’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est important pour les LGBT en général d’avoir accès à des services spécialisés où les services sont offerts par des professionnels sensibles, connaissant et compréhensifs des réalités LGBT, à plus forte raison des LGBT francophones  nouvellement ar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frir un environnement et des services de non jugement et sans oppression dans la langue que parle le mieux la personne LGBT immigr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 croissance et la complexité des demandes auprès de Francoqueer qui nous a amené à créer un groupe de soutien découlent des références reçues des autres organismes francophones ou anglophones offrant des services aux nouveaux arrivants ( des avocats des cliniques juridiques et p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ation du ministre à présenter une demande de subvention pour la mise en place de services et programmes d’accueil et d’établissement spécialisés en français.  </a:t>
            </a: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61F8-104F-4386-8044-D145232A340E}"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8D0A1-C0D5-4E81-A4F3-847CF8413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DE1D-22C8-4450-9910-22A269E5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38CBD-EB54-419F-AFDA-08C63ED15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A5CC1-1117-4FF8-B990-7C2A85AB8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1E491-4A05-449D-9A49-3006ABACA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23A31-0EDA-4FC7-A5EF-D576D5D3F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A7E56-DC58-4882-AA27-55D141F16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C959-057F-4802-B4BD-0037E86E0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83B5-28A7-44BF-86B5-3A4EF237B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8B6D8-0A10-4766-854B-4107601DC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114D3-2E01-48F5-AA9F-F0417034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F9D2C-60D2-4B94-8A9E-C321B787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DFCC8-AA81-4364-99C1-8C9F04CFC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678DB-2A17-4DBE-B362-14579FA85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2725E-F2C8-4360-AFC6-650B36277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56E71-99CA-48E7-8F99-F8A60AAB9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1FC1B-C12F-4D6F-AB0F-7E27EFBDB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82DC-5B8B-4D1B-9940-C71CA2A7D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58A77-4D1D-47BB-ADF8-2BA778A5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C06C-2621-4B20-849F-24DA732B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7AE6-79BC-4689-9E2C-4F971F784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8390-7F30-4BA2-9203-1D47D2429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1D5A2-2F28-4EEC-A674-DF4BB716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DFB0-07FC-4BC6-88B4-F8F09D973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E2C6-1937-447E-8E36-18B9C2E5314E}"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orme libre 12"/>
            <p:cNvGrpSpPr/>
            <p:nvPr/>
          </p:nvGrpSpPr>
          <p:grpSpPr>
            <a:xfrm>
              <a:off x="-19080" y="248040"/>
              <a:ext cx="9181080" cy="565200"/>
              <a:chOff x="-19080" y="248040"/>
              <a:chExt cx="9181080" cy="565200"/>
            </a:xfrm>
          </p:grpSpPr>
          <p:pic>
            <p:nvPicPr>
              <p:cNvPr id="12" name="Forme libre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A249-9B85-46A6-BD2F-4E4DFEA33D97}"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re 1" descr=""/>
          <p:cNvPicPr/>
          <p:nvPr/>
        </p:nvPicPr>
        <p:blipFill>
          <a:blip r:embed="rId1"/>
          <a:stretch/>
        </p:blipFill>
        <p:spPr>
          <a:xfrm>
            <a:off x="530280" y="-1011240"/>
            <a:ext cx="7864560" cy="421812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eorgia"/>
              </a:rPr>
              <a:t>POUR L’ACCUEIL ET L’INTÉGRATION RÉUSSIE  DES FRANCOPHONES IMMIGRANTS LGBTQIA </a:t>
            </a:r>
            <a:endParaRPr b="0" lang="en-US" sz="3600" spc="-1" strike="noStrike">
              <a:solidFill>
                <a:srgbClr val="ffffff"/>
              </a:solidFill>
              <a:latin typeface="Constantia"/>
            </a:endParaRPr>
          </a:p>
        </p:txBody>
      </p:sp>
      <p:pic>
        <p:nvPicPr>
          <p:cNvPr id="104" name="Picture 5" descr="http://www.francoqueer.ca/Logos/fq-2.jpg"/>
          <p:cNvPicPr/>
          <p:nvPr/>
        </p:nvPicPr>
        <p:blipFill>
          <a:blip r:embed="rId2"/>
          <a:stretch/>
        </p:blipFill>
        <p:spPr>
          <a:xfrm>
            <a:off x="2841480" y="765000"/>
            <a:ext cx="288288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Bref historique</a:t>
            </a:r>
            <a:endParaRPr b="0" lang="en-US" sz="4400" spc="-1" strike="noStrike">
              <a:solidFill>
                <a:srgbClr val="dbf5f9"/>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Initiative d’un groupe de francophones gais d’origines diversifiées incluant des nouveaux immigrants</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épondre à l’absence de programmes et services spécialisés ciblant les besoins des personnes LGBT francophones de Toronto</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Assemblée générale de fondation le 10 juin 2006 </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encontre socioculturelle mensuelle, apéro Franco Arc-en-ciel pour briser l’isolement  des  francophones LGBTQ</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a:t>
            </a:r>
            <a:endParaRPr b="0" lang="en-US" sz="4400" spc="-1" strike="noStrike">
              <a:solidFill>
                <a:srgbClr val="dbf5f9"/>
              </a:solidFill>
              <a:latin typeface="Calibri"/>
            </a:endParaRPr>
          </a:p>
        </p:txBody>
      </p:sp>
      <p:sp>
        <p:nvSpPr>
          <p:cNvPr id="1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7</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Participation à la recherche Pan-canadienne M-Track Lambda sur la santé sexuelle des hommes ayant des rapports sexuels avec les hommes (HARSAH)</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Appui informel aux nouveaux arrivants </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8</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augmenter la capacité de Francoqueer à offrir des services aux personnes vivant avec le VIH/sida</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9</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rganisation d’un symposium sur la violence faites aux femmes incluant les lesbiennes, transgenres et transsexuelles en partenariat avec Oasis Centre des femmes</a:t>
            </a:r>
            <a:endParaRPr b="0" lang="en-US" sz="2100" spc="-1" strike="noStrike">
              <a:solidFill>
                <a:srgbClr val="ffffff"/>
              </a:solidFill>
              <a:latin typeface="Constantia"/>
            </a:endParaRPr>
          </a:p>
          <a:p>
            <a:pPr marL="272880" indent="-272880">
              <a:lnSpc>
                <a:spcPct val="8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l’organisation de forums de discussion intergénérationnelle </a:t>
            </a:r>
            <a:r>
              <a:rPr b="0" lang="en-CA" sz="1400" spc="-1" strike="noStrike">
                <a:solidFill>
                  <a:srgbClr val="ffffff"/>
                </a:solidFill>
                <a:latin typeface="Georgia"/>
              </a:rPr>
              <a:t>sur l’amour et la sexualité </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Parrainage de la fondation d’Action Positive</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btention d’une subvention annuelle de fonctionnement pour Action Positive VIH/sid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0</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onfirmation du réseau ontarien de la santé arc-en-ciel pour l’obtention de services en français</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rganisation de la première campagne d’éducation  sur la santé sexuelle des 16 à 25 ans: Capotes Au Max!</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 et fin)</a:t>
            </a:r>
            <a:endParaRPr b="0" lang="en-US" sz="2400" spc="-1" strike="noStrike">
              <a:solidFill>
                <a:srgbClr val="dbf5f9"/>
              </a:solidFill>
              <a:latin typeface="Calibri"/>
            </a:endParaRPr>
          </a:p>
        </p:txBody>
      </p:sp>
      <p:sp>
        <p:nvSpPr>
          <p:cNvPr id="11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1</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Patrimoine canadien et du Conseil des arts de l’Ontario pour la réalisation de la Franco Fierté LGBT</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2</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Réalisation du documentaire ‘’Histoires de fiertés’’</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réation d’un groupe de soutien pour personnes LGBTQIA francophones immigrantes</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3</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la Fondation Trilium de l’Ontario pour la coordination du festival Franco Fierté 2014-2016 </a:t>
            </a:r>
            <a:endParaRPr b="0" lang="en-US" sz="2400" spc="-1" strike="noStrike">
              <a:solidFill>
                <a:srgbClr val="ffffff"/>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dbf5f9"/>
                </a:solidFill>
                <a:latin typeface="Calibri"/>
              </a:rPr>
              <a:t>Défis </a:t>
            </a:r>
            <a:endParaRPr b="0" lang="en-US" sz="5000" spc="-1" strike="noStrike">
              <a:solidFill>
                <a:srgbClr val="dbf5f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Répondre adéquatement aux demandes croissantes et complex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Manque de ressources humaines spécialisées et financièr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ifficultés à maintenir des bénévoles du fait de l’absence d’une structure organisationnelle et une programmation stabl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bf5f9"/>
                </a:solidFill>
                <a:latin typeface="Calibri"/>
              </a:rPr>
              <a:t>Pourquoi a-t-on besoin de services et programmes spécialisés?</a:t>
            </a:r>
            <a:endParaRPr b="0" lang="en-US" sz="3200" spc="-1" strike="noStrike">
              <a:solidFill>
                <a:srgbClr val="dbf5f9"/>
              </a:solidFill>
              <a:latin typeface="Calibri"/>
            </a:endParaRPr>
          </a:p>
        </p:txBody>
      </p:sp>
      <p:sp>
        <p:nvSpPr>
          <p:cNvPr id="1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En provenance des pays où l’homosexualité est criminalisée ou punie de peine de mort de  du Cameroun, de la Mauritanie, du Burundi, du Sénégal, du Congo, etc</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capacité et inconfort  de reveler leur orientation sexuelle au sein de leur communauté ethniq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disponibilité des services et programmes d’accueil et d’établissement spécialisés  en françai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omplexité des besoins LGBT vs les capacités et les ressources en français disponibl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Espace sécuritaire et de confiance</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réation d’un groupe de soutien</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Demande de subvention  FrancoQueer au Ministère des Affaires Civiques et de  l’Immigration de l’Ontario</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re 1" descr=""/>
          <p:cNvPicPr/>
          <p:nvPr/>
        </p:nvPicPr>
        <p:blipFill>
          <a:blip r:embed="rId1"/>
          <a:stretch/>
        </p:blipFill>
        <p:spPr>
          <a:xfrm>
            <a:off x="298440" y="1189080"/>
            <a:ext cx="88218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4:44:45Z</dcterms:created>
  <dc:creator>Carlos</dc:creator>
  <dc:description/>
  <dc:language>en-US</dc:language>
  <cp:lastModifiedBy>Carlos</cp:lastModifiedBy>
  <dcterms:modified xsi:type="dcterms:W3CDTF">2013-11-22T22:52:16Z</dcterms:modified>
  <cp:revision>34</cp:revision>
  <dc:subject/>
  <dc:title>POUR LE BIEN-ÊTRE D’UNE COMMUNAUTÉ </dc:title>
</cp:coreProperties>
</file>